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CB3-BE98-4CC6-93B9-126AE0C6B8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00F2-9FF6-4112-A511-3CCF9BF288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93D-26DD-49CC-A38A-236E045416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2711-2233-4AF3-A875-C6F0263FC1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28E2-BD42-41C6-99F7-1360639955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ABF-978C-4FA8-8AD7-BBB3895D7C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0B0-8914-47A6-AD6E-2FF295A6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FF9-D145-497C-AF47-7BC0A70E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3CD-31C0-4A8D-9438-124BA6B8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145-AD6C-451C-9531-65120494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FCA-DCA0-4448-B497-3D54916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165-1A38-4D45-B875-2DF695E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7E1-4B90-4B60-B5A7-B090BD9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868-4007-49AA-A531-3893E945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085-6F92-4479-AAD6-E1C6C0A1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6DD-CBF0-4FB7-9111-BD46395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889-6E66-4184-B1C0-7B62073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F64-AEF8-4102-8F3D-1A9660A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FB78-0FDB-4DA3-AA37-58B8BCB175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709560"/>
            <a:ext cx="77724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marianne schul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human rights consult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m.s@humanrightsconsultant.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www.humanrightsconsultant.a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        </a:t>
            </a: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@hrmaz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553080" y="0"/>
            <a:ext cx="178272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Line 7"/>
          <p:cNvSpPr/>
          <p:nvPr/>
        </p:nvSpPr>
        <p:spPr>
          <a:xfrm>
            <a:off x="609480" y="6094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33520" y="2743200"/>
            <a:ext cx="80769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Best interest of every learner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bat         January 20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everyone in the education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d 1" descr="Screen Shot 2014-06-20 at 10.02.51 AM.png"/>
          <p:cNvPicPr/>
          <p:nvPr/>
        </p:nvPicPr>
        <p:blipFill>
          <a:blip r:embed="rId2"/>
          <a:stretch/>
        </p:blipFill>
        <p:spPr>
          <a:xfrm>
            <a:off x="611280" y="2060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62120" y="60958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marianne schulze 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         www.humanrightsconsultant.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14624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kkurat"/>
                <a:ea typeface="Akkurat"/>
              </a:rPr>
              <a:t>Education is a human righ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Everyone has the right to education.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kkurat"/>
              </a:rPr>
              <a:t>-- Article 26 Universal Declaration of Human Right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Elimination of ignorance and illiteracy throughout the world.”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kkurat"/>
              </a:rPr>
              <a:t>-- Article 28 (2) Child Rights Convent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2120" y="60958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marianne schulze 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         www.humanrightsconsultant.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14624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kkurat"/>
              </a:rPr>
              <a:t>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Intelle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Soci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Econom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Struc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62120" y="60958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marianne schulze 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         www.humanrightsconsultant.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14624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kkurat"/>
                <a:ea typeface="Akkurat"/>
              </a:rPr>
              <a:t>EVERY Learner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kkurat"/>
              </a:rPr>
              <a:t>Access an inclusive, quality and free primary education and secondary education on an equal basis with others in the communities in which they live;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kkurat"/>
              </a:rPr>
              <a:t>-- Article 24 (2)(b) CRP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*everyone in the education syste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709560"/>
            <a:ext cx="777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marianne schul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human rights consult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m.s@humanrightsconsultant.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www.humanrightsconsultant.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       </a:t>
            </a: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@hrmaz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553080" y="0"/>
            <a:ext cx="178272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Line 4"/>
          <p:cNvSpPr/>
          <p:nvPr/>
        </p:nvSpPr>
        <p:spPr>
          <a:xfrm>
            <a:off x="609480" y="6094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14400" y="32004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kkurat"/>
              </a:rPr>
              <a:t>Thank you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ild 1" descr="Screen Shot 2014-06-20 at 10.02.51 AM.png"/>
          <p:cNvPicPr/>
          <p:nvPr/>
        </p:nvPicPr>
        <p:blipFill>
          <a:blip r:embed="rId2"/>
          <a:stretch/>
        </p:blipFill>
        <p:spPr>
          <a:xfrm>
            <a:off x="611280" y="2060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0:41Z</dcterms:created>
  <dc:creator>marianne schulze</dc:creator>
  <dc:description/>
  <dc:language>en-US</dc:language>
  <cp:lastModifiedBy>Rkia CHAFAQI</cp:lastModifiedBy>
  <cp:lastPrinted>2011-02-16T19:09:15Z</cp:lastPrinted>
  <dcterms:modified xsi:type="dcterms:W3CDTF">2019-01-04T09:15:16Z</dcterms:modified>
  <cp:revision>79</cp:revision>
  <dc:subject/>
  <dc:title>PowerPoint-Präsentation</dc:title>
</cp:coreProperties>
</file>